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434-2AD1-4470-A003-3356AF8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91F-547D-4F94-924A-18D5A6D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5FB-C51A-413F-9231-911D4F4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C85-FDF5-4475-87CC-449E2720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CB09-26E1-453F-8F74-4A83BB0E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19A-ECE1-4D48-8BB1-F462F83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3405-CC40-453C-9E0C-D5ADEDCD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503D-615C-48F0-9C20-34282A7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0408-FF6F-4E50-9BE2-B83DB89F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5A08-0379-4882-9956-A2A2F8BF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B675-8D08-410D-BC59-4678897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5EB-B7DA-48BE-AC72-57C59A50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6540-8049-41E0-9C60-6B193BD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3D6B-2710-4F4D-A7D7-EEF43E20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4B48-D4B3-45B6-B2C3-82FEADA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D533-FD3E-4CFA-B6B7-775D64EF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6D42-709B-49C3-BA1A-BF82BD0C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F946-689D-45E2-80DF-DDEED6DE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E86B-D5E1-4752-B1C8-CCFE941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96D1-2E0B-4AE4-82D1-DAB1C9D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7832-F375-45FF-9586-CE39018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E86A-AFC1-4CE6-AC2C-C2739CFE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169-265B-4768-AB6F-7877980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FEE8-ABDD-457C-A34E-0E1F789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46BB-1F4D-453C-B66E-AAE6EE5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78B1-A9A8-4D33-8696-BF51B70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023F-E2AA-45A3-8981-52D42AF8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85E0-FF15-4030-B3DF-6D2A85F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2FC1-9A61-42F9-A706-573DF73A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CCFA-60AF-46EC-9FD9-C4DD62A7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FC8D-AE8A-447E-AE24-AD6F11C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6538-7A42-4DB5-85CE-A0411ED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ACF9-A6F6-47C3-B9F9-CE69469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8FA-10B6-4602-81BE-C61C285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7124-4EF4-4D48-A808-7A1120F8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C7DB-5E7F-471F-83A3-2D4D584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F1CD-6D61-4831-A1B9-A39AD71B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AB27-8CEF-4306-938E-4D3BA3B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38FD-E3FE-49A7-AD7A-236D021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E87C-7EB3-432E-A7CA-3EBDDE4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0E39-5DEB-4FFD-8458-A4CA50A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9354-DDB2-4914-92B4-72CF1E64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492E-10FF-4CCA-B949-071D3E9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2FE3-476D-4E7B-8BD3-F904229A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197-3E29-45CC-9FB6-1118CFE9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96C8-0912-4B11-9FFE-4BA66F8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D71F-FA96-4BC2-84C1-20B6ACA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44A3-1114-4609-AA00-EF120D7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6CAF-2CCE-490B-A212-10B720BC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F6BC-15AB-4B93-A161-ADACEDFC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3CB9-8B16-4ECA-89D4-7241E99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F8C3-453A-472B-B112-46445C7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776A-78D5-4256-8E0F-8DB5B81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8E5E-EB92-4C05-B6D1-AACD5787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D10D-33D1-4EF1-9EEE-85111F38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B62-08B0-475D-918C-2524AD1E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2FAF-C741-44FA-A53C-332F0AE2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5D30-3D0A-46EC-8762-4CBE1E2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3A695-AAC0-4903-9B12-45A7D47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D5A2C-F391-4C8A-8B80-4841205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FD26-95FE-4436-9BD6-D0758AB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B4DB-CF39-4C2D-8201-6971C4D2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DF0A-4627-4BDE-B34A-66E8A9A5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52C28-9C2C-4995-B6B8-C0A5466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D626A-AF13-463A-84F8-28772AA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5F13-CC68-46D9-8BE2-97E9817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9D6-095B-409B-8EF2-23FDED8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6F54-61E5-4CFC-8FDF-47F90267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3EED-46D7-4DF1-9AD1-7D9FB398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A9FB5-2341-4112-B366-8BA8F48D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45E29-E3BC-4804-93A1-19704B81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7F21-FE13-4198-9A2A-D3B7614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F76F-48EC-4672-815B-7C689B4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1881-2DA9-4236-A4EF-AAC9334E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331A9-B432-44E5-89FE-540560C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027A0-344A-4D12-8DB3-4113D9D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DFC7D-AF51-4A45-AC0D-6F72338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6FB-5B2E-4A37-8DE0-18978EA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CC4D-8755-417A-AC6E-04A9BCB4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E860-067B-4054-9AB3-35376EE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74AE-8403-49CF-9D2F-F82D14C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947E-D184-4AC8-AC44-078F54F2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C119-BE49-4A35-B6B4-1546F6F3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2FE-3AC9-4CFE-8EBA-D72AAF01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03CF-163E-4B4F-915F-DA1BB838CAC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A257-90DA-4006-B661-87E008673331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A75D-179F-4749-BB15-C40264765D8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336-839D-437D-B062-E1435751964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D599-3B19-4A98-9BAB-8EB7F0E37E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B87-E151-4187-929D-23BF7C3556D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6ABF-7ED6-4D3E-9DB1-61B6AAB9D03D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x7.moy.su/_nw/0/79510896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7920" cy="159732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2789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4" descr="цирк 2.jpg"/>
          <p:cNvPicPr/>
          <p:nvPr/>
        </p:nvPicPr>
        <p:blipFill>
          <a:blip r:embed="rId2"/>
          <a:stretch/>
        </p:blipFill>
        <p:spPr>
          <a:xfrm>
            <a:off x="928800" y="1857240"/>
            <a:ext cx="72151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2322360"/>
          </a:xfrm>
          <a:prstGeom prst="rect">
            <a:avLst/>
          </a:prstGeom>
          <a:ln w="0">
            <a:noFill/>
          </a:ln>
        </p:spPr>
      </p:pic>
      <p:pic>
        <p:nvPicPr>
          <p:cNvPr id="324" name="22 - И. Дунаевский. Выходной марш..mp3" descr=""/>
          <p:cNvPicPr/>
          <p:nvPr/>
        </p:nvPicPr>
        <p:blipFill>
          <a:blip r:embed="rId2"/>
          <a:stretch/>
        </p:blipFill>
        <p:spPr>
          <a:xfrm>
            <a:off x="4419720" y="401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129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242560" cy="1933560"/>
          </a:xfrm>
          <a:prstGeom prst="rect">
            <a:avLst/>
          </a:prstGeom>
          <a:ln w="0">
            <a:noFill/>
          </a:ln>
        </p:spPr>
      </p:pic>
      <p:pic>
        <p:nvPicPr>
          <p:cNvPr id="326" name="Chayk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415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45520" cy="25113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4" descr="43936_1[1].jpg"/>
          <p:cNvPicPr/>
          <p:nvPr/>
        </p:nvPicPr>
        <p:blipFill>
          <a:blip r:embed="rId2"/>
          <a:stretch/>
        </p:blipFill>
        <p:spPr>
          <a:xfrm>
            <a:off x="3429000" y="2928960"/>
            <a:ext cx="25002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585720"/>
            <a:ext cx="8242560" cy="199224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4" descr="4074729311_775af956e0_o[1].jpg"/>
          <p:cNvPicPr/>
          <p:nvPr/>
        </p:nvPicPr>
        <p:blipFill>
          <a:blip r:embed="rId2"/>
          <a:stretch/>
        </p:blipFill>
        <p:spPr>
          <a:xfrm>
            <a:off x="2036880" y="3071880"/>
            <a:ext cx="50702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321760" cy="3090960"/>
          </a:xfrm>
          <a:prstGeom prst="rect">
            <a:avLst/>
          </a:prstGeom>
          <a:ln w="0">
            <a:noFill/>
          </a:ln>
        </p:spPr>
      </p:pic>
      <p:pic>
        <p:nvPicPr>
          <p:cNvPr id="306" name="марш  деревяных  солдатиков  чайковский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65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547120" cy="2457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Картинка 14 из 924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3080" y="2428920"/>
            <a:ext cx="5076720" cy="3390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12" name="43 - Д.Шостакович. Марш..mp3" descr=""/>
          <p:cNvPicPr/>
          <p:nvPr/>
        </p:nvPicPr>
        <p:blipFill>
          <a:blip r:embed="rId2"/>
          <a:stretch/>
        </p:blipFill>
        <p:spPr>
          <a:xfrm>
            <a:off x="4419720" y="401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337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65924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4" descr="object_0.1290422524.67645[1].jpg"/>
          <p:cNvPicPr/>
          <p:nvPr/>
        </p:nvPicPr>
        <p:blipFill>
          <a:blip r:embed="rId2"/>
          <a:stretch/>
        </p:blipFill>
        <p:spPr>
          <a:xfrm>
            <a:off x="1528920" y="2857680"/>
            <a:ext cx="5405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547640"/>
          </a:xfrm>
          <a:prstGeom prst="rect">
            <a:avLst/>
          </a:prstGeom>
          <a:ln w="0">
            <a:noFill/>
          </a:ln>
        </p:spPr>
      </p:pic>
      <p:pic>
        <p:nvPicPr>
          <p:cNvPr id="316" name="football.mp3" descr=""/>
          <p:cNvPicPr/>
          <p:nvPr/>
        </p:nvPicPr>
        <p:blipFill>
          <a:blip r:embed="rId2"/>
          <a:stretch/>
        </p:blipFill>
        <p:spPr>
          <a:xfrm>
            <a:off x="4419720" y="401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48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369280" cy="146844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4" descr="c468391486ad[1].jpg"/>
          <p:cNvPicPr/>
          <p:nvPr/>
        </p:nvPicPr>
        <p:blipFill>
          <a:blip r:embed="rId2"/>
          <a:srcRect l="12502" t="0" r="17191" b="1331"/>
          <a:stretch/>
        </p:blipFill>
        <p:spPr>
          <a:xfrm>
            <a:off x="2286000" y="2139840"/>
            <a:ext cx="428616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32920" cy="1547640"/>
          </a:xfrm>
          <a:prstGeom prst="rect">
            <a:avLst/>
          </a:prstGeom>
          <a:ln w="0">
            <a:noFill/>
          </a:ln>
        </p:spPr>
      </p:pic>
      <p:pic>
        <p:nvPicPr>
          <p:cNvPr id="320" name="mendelson.mp3" descr=""/>
          <p:cNvPicPr/>
          <p:nvPr/>
        </p:nvPicPr>
        <p:blipFill>
          <a:blip r:embed="rId2"/>
          <a:stretch/>
        </p:blipFill>
        <p:spPr>
          <a:xfrm>
            <a:off x="4419720" y="401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8334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0:12:37Z</dcterms:created>
  <dc:creator>ADMIN</dc:creator>
  <dc:description/>
  <dc:language>en-US</dc:language>
  <cp:lastModifiedBy>ADMIN</cp:lastModifiedBy>
  <dcterms:modified xsi:type="dcterms:W3CDTF">2014-01-15T13:31:18Z</dcterms:modified>
  <cp:revision>23</cp:revision>
  <dc:subject/>
  <dc:title>Музыка маршевого характера</dc:title>
</cp:coreProperties>
</file>